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871-3772-45AA-BC9A-309393FB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8DA-8050-47DE-A9C6-774D4777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565-35C0-43C0-BD19-F5291284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664-CE1B-4F73-8CD3-5FD2A475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A7B-EB08-4D56-97A4-7E8D7A1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874-53C4-48E4-B921-F98F01B9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3FD-BD9F-45BC-928D-28BB1B2A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8FE-F1E6-43D3-A213-4795885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90D-5005-4DDF-8E18-2220695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C02-657E-4508-9A23-4086324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D55-8E8B-4455-8974-F1F5B38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70F-5A88-4CC2-ADF3-5B6C6D6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337-F98B-40C1-8653-2CCE8A1A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JAH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great work here …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job, girls…well-explained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…some minor grammar and spelling issues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, girls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04:40Z</dcterms:created>
  <dc:creator>nbdoe</dc:creator>
  <dc:description/>
  <dc:language>en-US</dc:language>
  <cp:lastModifiedBy>nbdoe</cp:lastModifiedBy>
  <dcterms:modified xsi:type="dcterms:W3CDTF">2007-05-11T13:22:46Z</dcterms:modified>
  <cp:revision>2</cp:revision>
  <dc:subject/>
  <dc:title>Election 2007</dc:title>
</cp:coreProperties>
</file>